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B4D1-DF53-43AE-9970-02464C75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15C2-99A9-4C21-B1F4-7020B25D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5D1D-30F3-4F33-9F22-E718AB51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F102-E163-4BA4-8399-61406A6B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6B01-51BC-442D-8195-FE4F5E43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C591-4B46-406F-8D0F-72EB2BD9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27C5-B456-4687-995B-6ECD3E0F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A305-45B6-4DCA-97DC-47D8C24D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DEA2-5F92-42EA-A438-6EB7445A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3D22-F754-4970-A204-AAF266C2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B33F-F2BC-4642-B44B-EA1FC04B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53EF-A2A0-48C9-A831-846BE44C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FFD9-5302-4752-A4F8-EBE6A861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9908-B697-4451-AA24-97F50591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565D-23E8-4D19-A77C-52CF849D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3C9D-805A-4A9C-9A06-ED70E3D1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400B-948C-475A-B5FA-1AC066E0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5885-C6A4-43D9-87A7-073A4605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2361-C306-4FE6-88BC-1B0B872A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0E16-5A45-484F-A5C9-E6AF55B9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31A9-046F-4BE9-A06F-6CD34740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DDDF-B705-4DD9-AC96-111D2FF6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1818-4CC4-443D-82DD-E592C846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4273-D679-4A98-A284-7216280B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FD4D-F1F2-422D-93D6-9F683021B6C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2880" y="4952880"/>
            <a:ext cx="152640" cy="152640"/>
          </a:xfrm>
          <a:prstGeom prst="irregularSeal2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029200" y="3429000"/>
            <a:ext cx="152280" cy="152280"/>
          </a:xfrm>
          <a:prstGeom prst="irregularSeal2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257800" y="5257800"/>
            <a:ext cx="152280" cy="152280"/>
          </a:xfrm>
          <a:prstGeom prst="irregularSeal2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4343400"/>
            <a:ext cx="152280" cy="152280"/>
          </a:xfrm>
          <a:prstGeom prst="irregularSeal2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0" y="4572000"/>
            <a:ext cx="152280" cy="76320"/>
          </a:xfrm>
          <a:custGeom>
            <a:avLst/>
            <a:gdLst>
              <a:gd name="textAreaLeft" fmla="*/ 62640 w 152280"/>
              <a:gd name="textAreaRight" fmla="*/ 89640 w 15228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666880" y="5867280"/>
            <a:ext cx="152640" cy="76320"/>
          </a:xfrm>
          <a:custGeom>
            <a:avLst/>
            <a:gdLst>
              <a:gd name="textAreaLeft" fmla="*/ 63000 w 152640"/>
              <a:gd name="textAreaRight" fmla="*/ 89640 w 1526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19320" y="4267080"/>
            <a:ext cx="152280" cy="76320"/>
          </a:xfrm>
          <a:custGeom>
            <a:avLst/>
            <a:gdLst>
              <a:gd name="textAreaLeft" fmla="*/ 62640 w 152280"/>
              <a:gd name="textAreaRight" fmla="*/ 89640 w 15228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514600" y="5715000"/>
            <a:ext cx="152280" cy="76320"/>
          </a:xfrm>
          <a:custGeom>
            <a:avLst/>
            <a:gdLst>
              <a:gd name="textAreaLeft" fmla="*/ 62640 w 152280"/>
              <a:gd name="textAreaRight" fmla="*/ 89640 w 15228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819520" y="6019920"/>
            <a:ext cx="152280" cy="75960"/>
          </a:xfrm>
          <a:custGeom>
            <a:avLst/>
            <a:gdLst>
              <a:gd name="textAreaLeft" fmla="*/ 62640 w 152280"/>
              <a:gd name="textAreaRight" fmla="*/ 89640 w 152280"/>
              <a:gd name="textAreaTop" fmla="*/ 31320 h 75960"/>
              <a:gd name="textAreaBottom" fmla="*/ 44640 h 7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480" bIns="-334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4343400" y="3429000"/>
            <a:ext cx="152280" cy="76320"/>
          </a:xfrm>
          <a:custGeom>
            <a:avLst/>
            <a:gdLst>
              <a:gd name="textAreaLeft" fmla="*/ 62640 w 152280"/>
              <a:gd name="textAreaRight" fmla="*/ 89640 w 15228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324480" y="2362320"/>
            <a:ext cx="152640" cy="75960"/>
          </a:xfrm>
          <a:custGeom>
            <a:avLst/>
            <a:gdLst>
              <a:gd name="textAreaLeft" fmla="*/ 63000 w 152640"/>
              <a:gd name="textAreaRight" fmla="*/ 89640 w 152640"/>
              <a:gd name="textAreaTop" fmla="*/ 31320 h 75960"/>
              <a:gd name="textAreaBottom" fmla="*/ 44640 h 7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480" bIns="-334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238880" y="3429000"/>
            <a:ext cx="152640" cy="76320"/>
          </a:xfrm>
          <a:custGeom>
            <a:avLst/>
            <a:gdLst>
              <a:gd name="textAreaLeft" fmla="*/ 63000 w 152640"/>
              <a:gd name="textAreaRight" fmla="*/ 89640 w 1526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54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8CFB-A354-4941-9188-FC964919A30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mcgrath@ncsa.uiuc.edu" TargetMode="External"/><Relationship Id="rId2" Type="http://schemas.openxmlformats.org/officeDocument/2006/relationships/hyperlink" Target="mailto:mcgrath@ncsa.uiuc.edu" TargetMode="External"/><Relationship Id="rId3" Type="http://schemas.openxmlformats.org/officeDocument/2006/relationships/hyperlink" Target="mailto:mcgrath@ncsa.uiuc.edu" TargetMode="External"/><Relationship Id="rId4" Type="http://schemas.openxmlformats.org/officeDocument/2006/relationships/hyperlink" Target="mailto:mcgrath@ncsa.uiuc.edu" TargetMode="External"/><Relationship Id="rId5" Type="http://schemas.openxmlformats.org/officeDocument/2006/relationships/hyperlink" Target="mailto:mcgrath@ncsa.uiuc.edu" TargetMode="External"/><Relationship Id="rId6" Type="http://schemas.openxmlformats.org/officeDocument/2006/relationships/hyperlink" Target="mailto:mcgrath@ncsa.uiuc.edu" TargetMode="External"/><Relationship Id="rId7" Type="http://schemas.openxmlformats.org/officeDocument/2006/relationships/hyperlink" Target="mailto:mcgrath@ncsa.uiuc.edu" TargetMode="External"/><Relationship Id="rId8" Type="http://schemas.openxmlformats.org/officeDocument/2006/relationships/hyperlink" Target="mailto:xlu@ncsa.uiuc.edu" TargetMode="External"/><Relationship Id="rId9" Type="http://schemas.openxmlformats.org/officeDocument/2006/relationships/hyperlink" Target="mailto:xlu@ncsa.uiuc.edu" TargetMode="External"/><Relationship Id="rId10" Type="http://schemas.openxmlformats.org/officeDocument/2006/relationships/hyperlink" Target="mailto:xlu@ncsa.uiuc.edu" TargetMode="External"/><Relationship Id="rId11" Type="http://schemas.openxmlformats.org/officeDocument/2006/relationships/hyperlink" Target="mailto:xlu@ncsa.uiuc.edu" TargetMode="External"/><Relationship Id="rId12" Type="http://schemas.openxmlformats.org/officeDocument/2006/relationships/hyperlink" Target="mailto:xlu@ncsa.uiuc.edu" TargetMode="External"/><Relationship Id="rId13" Type="http://schemas.openxmlformats.org/officeDocument/2006/relationships/hyperlink" Target="mailto:xlu@ncsa.uiuc.edu" TargetMode="External"/><Relationship Id="rId14" Type="http://schemas.openxmlformats.org/officeDocument/2006/relationships/hyperlink" Target="mailto:xlu@ncsa.uiuc.edu" TargetMode="External"/><Relationship Id="rId15" Type="http://schemas.openxmlformats.org/officeDocument/2006/relationships/hyperlink" Target="mailto:x-cao@ncsa.uiuc.edu" TargetMode="External"/><Relationship Id="rId16" Type="http://schemas.openxmlformats.org/officeDocument/2006/relationships/hyperlink" Target="mailto:x-cao@ncsa.uiuc.edu" TargetMode="External"/><Relationship Id="rId17" Type="http://schemas.openxmlformats.org/officeDocument/2006/relationships/hyperlink" Target="mailto:x-cao@ncsa.uiuc.edu" TargetMode="External"/><Relationship Id="rId18" Type="http://schemas.openxmlformats.org/officeDocument/2006/relationships/hyperlink" Target="mailto:x-cao@ncsa.uiuc.edu" TargetMode="External"/><Relationship Id="rId19" Type="http://schemas.openxmlformats.org/officeDocument/2006/relationships/hyperlink" Target="mailto:x-cao@ncsa.uiuc.edu" TargetMode="External"/><Relationship Id="rId20" Type="http://schemas.openxmlformats.org/officeDocument/2006/relationships/hyperlink" Target="mailto:x-cao@ncsa.uiuc.edu" TargetMode="External"/><Relationship Id="rId21" Type="http://schemas.openxmlformats.org/officeDocument/2006/relationships/hyperlink" Target="mailto:x-cao@ncsa.uiuc.edu" TargetMode="External"/><Relationship Id="rId2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mcgrath@ncsa.uiuc.edu" TargetMode="External"/><Relationship Id="rId2" Type="http://schemas.openxmlformats.org/officeDocument/2006/relationships/hyperlink" Target="mailto:mcgrath@ncsa.uiuc.edu" TargetMode="External"/><Relationship Id="rId3" Type="http://schemas.openxmlformats.org/officeDocument/2006/relationships/hyperlink" Target="mailto:mcgrath@ncsa.uiuc.edu" TargetMode="External"/><Relationship Id="rId4" Type="http://schemas.openxmlformats.org/officeDocument/2006/relationships/hyperlink" Target="mailto:mcgrath@ncsa.uiuc.edu" TargetMode="External"/><Relationship Id="rId5" Type="http://schemas.openxmlformats.org/officeDocument/2006/relationships/hyperlink" Target="mailto:mcgrath@ncsa.uiuc.edu" TargetMode="External"/><Relationship Id="rId6" Type="http://schemas.openxmlformats.org/officeDocument/2006/relationships/hyperlink" Target="mailto:mcgrath@ncsa.uiuc.edu" TargetMode="External"/><Relationship Id="rId7" Type="http://schemas.openxmlformats.org/officeDocument/2006/relationships/hyperlink" Target="mailto:mcgrath@ncsa.uiuc.edu" TargetMode="External"/><Relationship Id="rId8" Type="http://schemas.openxmlformats.org/officeDocument/2006/relationships/hyperlink" Target="mailto:xlu@ncsa.uiuc.edu" TargetMode="External"/><Relationship Id="rId9" Type="http://schemas.openxmlformats.org/officeDocument/2006/relationships/hyperlink" Target="mailto:xlu@ncsa.uiuc.edu" TargetMode="External"/><Relationship Id="rId10" Type="http://schemas.openxmlformats.org/officeDocument/2006/relationships/hyperlink" Target="mailto:xlu@ncsa.uiuc.edu" TargetMode="External"/><Relationship Id="rId11" Type="http://schemas.openxmlformats.org/officeDocument/2006/relationships/hyperlink" Target="mailto:xlu@ncsa.uiuc.edu" TargetMode="External"/><Relationship Id="rId12" Type="http://schemas.openxmlformats.org/officeDocument/2006/relationships/hyperlink" Target="mailto:xlu@ncsa.uiuc.edu" TargetMode="External"/><Relationship Id="rId13" Type="http://schemas.openxmlformats.org/officeDocument/2006/relationships/hyperlink" Target="mailto:xlu@ncsa.uiuc.edu" TargetMode="External"/><Relationship Id="rId14" Type="http://schemas.openxmlformats.org/officeDocument/2006/relationships/hyperlink" Target="mailto:xlu@ncsa.uiuc.edu" TargetMode="External"/><Relationship Id="rId15" Type="http://schemas.openxmlformats.org/officeDocument/2006/relationships/hyperlink" Target="mailto:x-cao@ncsa.uiuc.edu" TargetMode="External"/><Relationship Id="rId16" Type="http://schemas.openxmlformats.org/officeDocument/2006/relationships/hyperlink" Target="mailto:x-cao@ncsa.uiuc.edu" TargetMode="External"/><Relationship Id="rId17" Type="http://schemas.openxmlformats.org/officeDocument/2006/relationships/hyperlink" Target="mailto:x-cao@ncsa.uiuc.edu" TargetMode="External"/><Relationship Id="rId18" Type="http://schemas.openxmlformats.org/officeDocument/2006/relationships/hyperlink" Target="mailto:x-cao@ncsa.uiuc.edu" TargetMode="External"/><Relationship Id="rId19" Type="http://schemas.openxmlformats.org/officeDocument/2006/relationships/hyperlink" Target="mailto:x-cao@ncsa.uiuc.edu" TargetMode="External"/><Relationship Id="rId20" Type="http://schemas.openxmlformats.org/officeDocument/2006/relationships/hyperlink" Target="mailto:x-cao@ncsa.uiuc.edu" TargetMode="External"/><Relationship Id="rId21" Type="http://schemas.openxmlformats.org/officeDocument/2006/relationships/hyperlink" Target="mailto:x-cao@ncsa.uiuc.edu" TargetMode="External"/><Relationship Id="rId22" Type="http://schemas.openxmlformats.org/officeDocument/2006/relationships/hyperlink" Target="mailto:x-cao@ncsa.uiuc.edu" TargetMode="External"/><Relationship Id="rId2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123720"/>
            <a:ext cx="7772400" cy="114300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HDF Java Overview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9" name="M0PQ5KIL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812880" cy="635040"/>
          </a:xfrm>
          <a:prstGeom prst="rect">
            <a:avLst/>
          </a:prstGeom>
          <a:ln w="0">
            <a:noFill/>
          </a:ln>
        </p:spPr>
      </p:pic>
      <p:pic>
        <p:nvPicPr>
          <p:cNvPr id="100" name="NCSALogoSmaller" descr=""/>
          <p:cNvPicPr/>
          <p:nvPr/>
        </p:nvPicPr>
        <p:blipFill>
          <a:blip r:embed="rId2"/>
          <a:stretch/>
        </p:blipFill>
        <p:spPr>
          <a:xfrm>
            <a:off x="6324480" y="380880"/>
            <a:ext cx="1752840" cy="633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5800" y="56386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8980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HDF Java Overview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DF Java Tea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bert E. McGrath (lea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mcgrath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3"/>
              </a:rPr>
              <a:t>ncsa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5"/>
              </a:rPr>
              <a:t>uiuc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7"/>
              </a:rPr>
              <a:t>edu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injian L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8"/>
              </a:rPr>
              <a:t>xlu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9"/>
              </a:rPr>
              <a:t>@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0"/>
              </a:rPr>
              <a:t>ncsa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1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2"/>
              </a:rPr>
              <a:t>uiuc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3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4"/>
              </a:rPr>
              <a:t>edu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ter Ca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5"/>
              </a:rPr>
              <a:t>x-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6"/>
              </a:rPr>
              <a:t>cao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7"/>
              </a:rPr>
              <a:t>@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8"/>
              </a:rPr>
              <a:t>ncsa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0"/>
              </a:rPr>
              <a:t>uiuc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u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8980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Project Goal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 value to HDF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eate “Collage in Java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ress portable, high performance I/O needs for Java for Science and Engineering Compu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 cool stuff with Java and HD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8980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Project Goal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 value to HDF  -- a standard Java interface to the HDF libra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ccess to HDF files from Jav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w Java based too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twork loadable components for accessing HD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tensible, customizable frameworks for accessing HD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8980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Project Goal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eate “Collage in Java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Java-based collaborative scientific visualization to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place aging tools with state of the art Java-based too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ee, supported, NCSA softwa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8980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HDF Java Tool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HV current stat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DK 1.1 version released on 1 September 199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ll source code was releas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ll support for HDF 4 Library:  the official “Java HDF Interface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asic browsing and visualization of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local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fi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e:  http://hdf.ncsa.uiuc.edu/java-hdf-html/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HDF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Statu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HV fut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etter support for very large fi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re visualization featur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ansparent access to remote fi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llaborative version of brows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DK 1.2  (lots of new GUI feature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0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HDF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Java Tool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lanned developments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mproved engineering, upgrade to JDK 1.2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pport for output in various formats (?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pport for ingest, editing (?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ed help from user support to prioritize features (see handout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5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Java HDF Architecture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905120" y="2438280"/>
            <a:ext cx="4479840" cy="3475080"/>
            <a:chOff x="1905120" y="2438280"/>
            <a:chExt cx="4479840" cy="3475080"/>
          </a:xfrm>
        </p:grpSpPr>
        <p:sp>
          <p:nvSpPr>
            <p:cNvPr id="190" name=""/>
            <p:cNvSpPr/>
            <p:nvPr/>
          </p:nvSpPr>
          <p:spPr>
            <a:xfrm>
              <a:off x="3641760" y="5273640"/>
              <a:ext cx="639720" cy="639720"/>
            </a:xfrm>
            <a:prstGeom prst="can">
              <a:avLst>
                <a:gd name="adj" fmla="val 25000"/>
              </a:avLst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Disk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59240" y="4816440"/>
              <a:ext cx="1189080" cy="3650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imes New Roman"/>
                </a:rPr>
                <a:t>HDF Library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59240" y="4084560"/>
              <a:ext cx="1189080" cy="4572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imes New Roman"/>
                </a:rPr>
                <a:t>C  layer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(native methods)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59240" y="3352680"/>
              <a:ext cx="1096920" cy="4572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imes New Roman"/>
                </a:rPr>
                <a:t>Java  layer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(ncsa.hdf.hdflib)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84560" y="3352680"/>
              <a:ext cx="182520" cy="1189080"/>
            </a:xfrm>
            <a:custGeom>
              <a:avLst/>
              <a:gdLst>
                <a:gd name="textAreaLeft" fmla="*/ 116640 w 182520"/>
                <a:gd name="textAreaRight" fmla="*/ 182880 w 182520"/>
                <a:gd name="textAreaTop" fmla="*/ 30960 h 1189080"/>
                <a:gd name="textAreaBottom" fmla="*/ 1158120 h 11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05120" y="3718080"/>
              <a:ext cx="1096920" cy="54900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The Java HDF    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   </a:t>
              </a: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Interface (JHI)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Implementation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30840" y="3992400"/>
              <a:ext cx="92160" cy="1098720"/>
            </a:xfrm>
            <a:custGeom>
              <a:avLst/>
              <a:gdLst>
                <a:gd name="textAreaLeft" fmla="*/ 0 w 92160"/>
                <a:gd name="textAreaRight" fmla="*/ 33120 w 92160"/>
                <a:gd name="textAreaTop" fmla="*/ 28440 h 1098720"/>
                <a:gd name="textAreaBottom" fmla="*/ 1070280 h 109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23000" y="4084560"/>
              <a:ext cx="1096920" cy="109692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A  combined,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dynamically loaded native code library: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HDF, Java native method  implemntations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367080" y="2438280"/>
              <a:ext cx="824040" cy="54936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imes New Roman"/>
                </a:rPr>
                <a:t>   </a:t>
              </a:r>
              <a:r>
                <a:rPr b="1" lang="en-US" sz="1000" spc="-1" strike="noStrike">
                  <a:solidFill>
                    <a:srgbClr val="ffffcc"/>
                  </a:solidFill>
                  <a:latin typeface="Times New Roman"/>
                </a:rPr>
                <a:t>JHV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16440" y="5181480"/>
              <a:ext cx="92160" cy="9216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16440" y="4541760"/>
              <a:ext cx="92160" cy="9216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24280" y="3809880"/>
              <a:ext cx="92160" cy="9216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33920" y="2987640"/>
              <a:ext cx="90360" cy="273240"/>
            </a:xfrm>
            <a:prstGeom prst="upDownArrow">
              <a:avLst>
                <a:gd name="adj1" fmla="val 50000"/>
                <a:gd name="adj2" fmla="val 60198"/>
              </a:avLst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65800" y="2803680"/>
              <a:ext cx="1919160" cy="36648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Open Interface for any Java Application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373280" y="3078000"/>
              <a:ext cx="182520" cy="9216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Java HDF Architecture (future)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62720" y="4662360"/>
            <a:ext cx="639720" cy="6397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Disk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78400" y="4205160"/>
            <a:ext cx="1189080" cy="3654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HDF Libra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78400" y="3473280"/>
            <a:ext cx="1189080" cy="4572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C  lay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(native methods)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78400" y="2925720"/>
            <a:ext cx="1096920" cy="2746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Java  lay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35600" y="4570560"/>
            <a:ext cx="92160" cy="918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35600" y="3930480"/>
            <a:ext cx="92160" cy="921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45240" y="3200400"/>
            <a:ext cx="90360" cy="903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2103480"/>
            <a:ext cx="1919160" cy="365040"/>
          </a:xfrm>
          <a:prstGeom prst="rect">
            <a:avLst/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Open Interface for any Java Application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11320" y="2743200"/>
            <a:ext cx="1097280" cy="2746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Java  lay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19520" y="1828800"/>
            <a:ext cx="822240" cy="547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JHV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84560" y="2376360"/>
            <a:ext cx="92160" cy="274680"/>
          </a:xfrm>
          <a:prstGeom prst="upDownArrow">
            <a:avLst>
              <a:gd name="adj1" fmla="val 50000"/>
              <a:gd name="adj2" fmla="val 59333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824280" y="2468520"/>
            <a:ext cx="184320" cy="9216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73640" y="2743200"/>
            <a:ext cx="914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Network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Link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3368160" y="3107880"/>
            <a:ext cx="365040" cy="365400"/>
          </a:xfrm>
          <a:custGeom>
            <a:avLst/>
            <a:gdLst>
              <a:gd name="textAreaLeft" fmla="*/ 104760 w 365040"/>
              <a:gd name="textAreaRight" fmla="*/ 312840 w 365040"/>
              <a:gd name="textAreaTop" fmla="*/ 210600 h 365400"/>
              <a:gd name="textAreaBottom" fmla="*/ 313200 h 3654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52000" y="2376720"/>
            <a:ext cx="366840" cy="365040"/>
          </a:xfrm>
          <a:custGeom>
            <a:avLst/>
            <a:gdLst>
              <a:gd name="textAreaLeft" fmla="*/ 105120 w 366840"/>
              <a:gd name="textAreaRight" fmla="*/ 314280 w 366840"/>
              <a:gd name="textAreaTop" fmla="*/ 210240 h 365040"/>
              <a:gd name="textAreaBottom" fmla="*/ 312840 h 3650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038480" y="2590920"/>
            <a:ext cx="1554120" cy="730080"/>
          </a:xfrm>
          <a:prstGeom prst="line">
            <a:avLst/>
          </a:prstGeom>
          <a:ln w="2844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1120" y="3200400"/>
            <a:ext cx="914400" cy="91296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440 h 912960"/>
              <a:gd name="textAreaBottom" fmla="*/ 704520 h 91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73640" y="3382920"/>
            <a:ext cx="73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cc"/>
                </a:solidFill>
                <a:latin typeface="Times New Roman"/>
              </a:rPr>
              <a:t>And then Magic happens 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ffffcc"/>
                </a:solidFill>
                <a:latin typeface="Times New Roman"/>
              </a:rPr>
              <a:t>. . .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03200" y="-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Java HDF Server Prototype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360" y="20574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Java HDF Server (JHS) is a Java servlet  which can be wrapped by any other Java-based server such as Sun’s Java Web Server  or W3C’s Jigsaw serv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standard object model for transparently accessing local and remote HDF fi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271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179000" y="545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HDF Java Overview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DF Java Tea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bert E. McGrath (lea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mcgrath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3"/>
              </a:rPr>
              <a:t>ncsa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5"/>
              </a:rPr>
              <a:t>uiuc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7"/>
              </a:rPr>
              <a:t>edu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injian L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8"/>
              </a:rPr>
              <a:t>xlu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9"/>
              </a:rPr>
              <a:t>@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0"/>
              </a:rPr>
              <a:t>ncsa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1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2"/>
              </a:rPr>
              <a:t>uiuc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3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4"/>
              </a:rPr>
              <a:t>edu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ter Ca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5"/>
              </a:rPr>
              <a:t>x-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6"/>
              </a:rPr>
              <a:t>cao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7"/>
              </a:rPr>
              <a:t>@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8"/>
              </a:rPr>
              <a:t>ncsa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0"/>
              </a:rPr>
              <a:t>uiuc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2"/>
              </a:rPr>
              <a:t>edu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8980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Java HDF Architecture (future)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8" name="architecture" descr=""/>
          <p:cNvPicPr/>
          <p:nvPr/>
        </p:nvPicPr>
        <p:blipFill>
          <a:blip r:embed="rId1"/>
          <a:stretch/>
        </p:blipFill>
        <p:spPr>
          <a:xfrm>
            <a:off x="1600200" y="2219400"/>
            <a:ext cx="54230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Java HDF Architecture (future)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2" name="tree" descr=""/>
          <p:cNvPicPr/>
          <p:nvPr/>
        </p:nvPicPr>
        <p:blipFill>
          <a:blip r:embed="rId1"/>
          <a:stretch/>
        </p:blipFill>
        <p:spPr>
          <a:xfrm>
            <a:off x="3016080" y="1600200"/>
            <a:ext cx="3111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Future Work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eate/Edit/Modify HDF files (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arious output options (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dularize the design, make easier for users to customize and exte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HDF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Java Tool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iscussion with User representatives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lease see the handou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9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NCSA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 HDF: Statu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DF-4 Library: Continuing Suppo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DF-5 Library: Prototype/Translation/Compatibi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DF tools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Goal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 Free, basic too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Feature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Now and fut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HDF Library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DF-4 Library support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p desk (hdfhelp@ncsa.uiuc.edu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utori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nu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g fix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e:  http://hdf.ncsa.uiuc.edu/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NCSA HDF Team will support the current HDF 4 Library “forever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4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1371600" y="1905120"/>
            <a:ext cx="4078440" cy="3863520"/>
            <a:chOff x="1371600" y="1905120"/>
            <a:chExt cx="4078440" cy="3863520"/>
          </a:xfrm>
        </p:grpSpPr>
        <p:sp>
          <p:nvSpPr>
            <p:cNvPr id="118" name=""/>
            <p:cNvSpPr/>
            <p:nvPr/>
          </p:nvSpPr>
          <p:spPr>
            <a:xfrm>
              <a:off x="1371600" y="1905120"/>
              <a:ext cx="4078440" cy="1001520"/>
            </a:xfrm>
            <a:custGeom>
              <a:avLst/>
              <a:gdLst/>
              <a:ahLst/>
              <a:rect l="l" t="t" r="r" b="b"/>
              <a:pathLst>
                <a:path w="2569" h="631">
                  <a:moveTo>
                    <a:pt x="336" y="630"/>
                  </a:moveTo>
                  <a:lnTo>
                    <a:pt x="2244" y="630"/>
                  </a:lnTo>
                  <a:lnTo>
                    <a:pt x="2568" y="0"/>
                  </a:lnTo>
                  <a:lnTo>
                    <a:pt x="0" y="6"/>
                  </a:lnTo>
                  <a:lnTo>
                    <a:pt x="336" y="630"/>
                  </a:lnTo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95400" y="2895480"/>
              <a:ext cx="3059280" cy="915840"/>
            </a:xfrm>
            <a:custGeom>
              <a:avLst/>
              <a:gdLst/>
              <a:ahLst/>
              <a:rect l="l" t="t" r="r" b="b"/>
              <a:pathLst>
                <a:path w="1927" h="577">
                  <a:moveTo>
                    <a:pt x="0" y="0"/>
                  </a:moveTo>
                  <a:lnTo>
                    <a:pt x="1926" y="0"/>
                  </a:lnTo>
                  <a:lnTo>
                    <a:pt x="1620" y="576"/>
                  </a:lnTo>
                  <a:lnTo>
                    <a:pt x="312" y="576"/>
                  </a:ln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05160" y="3803400"/>
              <a:ext cx="2046240" cy="847440"/>
            </a:xfrm>
            <a:custGeom>
              <a:avLst/>
              <a:gdLst/>
              <a:ahLst/>
              <a:rect l="l" t="t" r="r" b="b"/>
              <a:pathLst>
                <a:path w="1289" h="534">
                  <a:moveTo>
                    <a:pt x="0" y="5"/>
                  </a:moveTo>
                  <a:lnTo>
                    <a:pt x="274" y="533"/>
                  </a:lnTo>
                  <a:lnTo>
                    <a:pt x="647" y="528"/>
                  </a:lnTo>
                  <a:lnTo>
                    <a:pt x="1013" y="528"/>
                  </a:lnTo>
                  <a:lnTo>
                    <a:pt x="1288" y="0"/>
                  </a:lnTo>
                  <a:lnTo>
                    <a:pt x="0" y="5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47960" y="4643280"/>
              <a:ext cx="1154160" cy="1125360"/>
            </a:xfrm>
            <a:custGeom>
              <a:avLst/>
              <a:gdLst/>
              <a:ahLst/>
              <a:rect l="l" t="t" r="r" b="b"/>
              <a:pathLst>
                <a:path w="727" h="709">
                  <a:moveTo>
                    <a:pt x="0" y="0"/>
                  </a:moveTo>
                  <a:lnTo>
                    <a:pt x="366" y="708"/>
                  </a:lnTo>
                  <a:lnTo>
                    <a:pt x="726" y="0"/>
                  </a:lnTo>
                  <a:lnTo>
                    <a:pt x="0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49360" y="2894040"/>
              <a:ext cx="20116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Programming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Interface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05400" y="3922560"/>
              <a:ext cx="1452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Low-level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Interfac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36600" y="4786200"/>
              <a:ext cx="824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HDF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538280" y="2033640"/>
            <a:ext cx="37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DF-EOS AP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48440" y="1990800"/>
            <a:ext cx="36828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utilities &amp; applications for manipulating, viewing, and analyzing data in HDF fi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87692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A file format* for scientific dat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* Format and library are from NCS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562720" y="3124080"/>
            <a:ext cx="2505960" cy="1434960"/>
            <a:chOff x="5562720" y="3124080"/>
            <a:chExt cx="2505960" cy="1434960"/>
          </a:xfrm>
        </p:grpSpPr>
        <p:sp>
          <p:nvSpPr>
            <p:cNvPr id="129" name=""/>
            <p:cNvSpPr/>
            <p:nvPr/>
          </p:nvSpPr>
          <p:spPr>
            <a:xfrm>
              <a:off x="5562720" y="3124080"/>
              <a:ext cx="482400" cy="1434960"/>
            </a:xfrm>
            <a:custGeom>
              <a:avLst/>
              <a:gdLst>
                <a:gd name="textAreaLeft" fmla="*/ 0 w 482400"/>
                <a:gd name="textAreaRight" fmla="*/ 174240 w 482400"/>
                <a:gd name="textAreaTop" fmla="*/ 37080 h 1434960"/>
                <a:gd name="textAreaBottom" fmla="*/ 1397880 h 143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382"/>
                  </a:lnTo>
                  <a:cubicBezTo>
                    <a:pt x="10800" y="10282"/>
                    <a:pt x="16200" y="11182"/>
                    <a:pt x="21600" y="11182"/>
                  </a:cubicBezTo>
                  <a:cubicBezTo>
                    <a:pt x="16200" y="11182"/>
                    <a:pt x="10800" y="12082"/>
                    <a:pt x="10800" y="12982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95320" y="3646440"/>
              <a:ext cx="177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HDF Library*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HDF Library Lay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89800" y="601992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HDF:  New HDF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DF-5 Library: “distant future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DF 5 is a new file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rge numbers of obje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ery large obje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ead saf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uch cleaner object model &amp; implem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DF 4 compatibility and conversion will be provid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HDF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Tool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DF tools:  Basic access to HDF fil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Java HDF Viewe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Basic browsing and anal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cientific Data Serve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Basic Web/Internet browsing and anal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Horizon Image Browse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 Generic Java applets for data brows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“Scientific Data Browser”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 access to HDF fil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GI program allows HDF files to be browsed by any Web brows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other file formats:  FITS, CD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ailable now at: http://hdf.ncsa.uiuc.ed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ghes STX has extended NCSA’s product to support HDF-E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ailable December 15 at: http://hops.stx.com:8080/dialhome.htm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9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Horizon Image Browser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eric Java classes for viewing dat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ee components to be plugged in and customiz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pports any file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vailable now at: http://imagelib.ncsa.uiuc.edu/imagelib/Horiz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6T17:30:22Z</dcterms:created>
  <dc:creator>Robert E.  McGrath</dc:creator>
  <dc:description/>
  <dc:language>en-US</dc:language>
  <cp:lastModifiedBy>Robert E.  McGrath</cp:lastModifiedBy>
  <cp:lastPrinted>1997-11-16T19:52:28Z</cp:lastPrinted>
  <dcterms:modified xsi:type="dcterms:W3CDTF">1997-11-16T19:54:12Z</dcterms:modified>
  <cp:revision>4</cp:revision>
  <dc:subject/>
  <dc:title>HDF Java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ncsa.uiuc.edu/People/mcgrath</vt:lpwstr>
  </property>
  <property fmtid="{D5CDD505-2E9C-101B-9397-08002B2CF9AE}" pid="9" name="LinkColor">
    <vt:r8>16711782</vt:r8>
  </property>
  <property fmtid="{D5CDD505-2E9C-101B-9397-08002B2CF9AE}" pid="10" name="MailAddress">
    <vt:lpwstr>mcgrath@ncsa.uiuc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mcgrath\Java-HDF\JPL\11-18-97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